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FD6-6478-4DB6-BCB3-C2EE3877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3E96-5ACB-4CE7-BD52-8DD69AF6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FD7C-5E15-4893-89F5-2F72DA09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ACD-942E-45DF-8F62-E2AB7795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42E9-0255-43F9-B170-51049D09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0574-9528-4764-80A9-15E7489E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25A6-90BA-460D-92CC-5AD56518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387C-1269-4B6F-B393-D1B7B613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C6C2-A219-4459-A67B-A0F2CB0F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2C38-DF22-45C3-AAE8-4A1DFD45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EE4D-C140-4933-A683-38127A12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5DEC-F72A-4AED-9C4B-AD70AA1B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D3E9-7685-4D35-9891-358E42F5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CC11-870E-4138-92BE-B36A2B90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16F8-241E-4552-B1FA-3A274CBA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B834-401A-426D-8F3B-FC8A382C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2FA0-19C9-4030-845F-0DE358C9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3BCF4-51F5-4B6A-A993-3642F6E4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DFEDF-E0AF-4DBB-9818-A9F6EF97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58D40-3EC9-4BAA-A83A-89FA2B17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EE2E9-E77B-4835-8EE0-07DC104C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0FDBB-CC68-4E1B-80C2-B66626AC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27DD-35A3-4E63-8533-AC019838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2CC09-A374-48F6-8664-99966746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700B4-90DE-44F1-809B-433E97BD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84371-C645-4146-AA64-5CAA49DC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03967-55A2-48E2-9A9F-AD302DF6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E2CB2-10B1-47A1-87B3-BD648D20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887AC-DD69-4455-9586-ED9DE129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27B47-C105-4D7E-BB2D-9CA9D43D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0A8-D9BC-4D53-B048-1E027BFC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D27C-865A-44EB-88D0-39D2FF62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E98-9093-4750-8DF0-0E0BF8A4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B27-9B06-4C15-AA3A-7D59068F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DA7-723F-45BF-A52B-4DE67F55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127-A44D-4E1A-B14D-5FBFE2A3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B519-73A1-4693-AB07-C40EEA56F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1841760" cy="166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F701-F549-46DF-9B86-02A49F10A67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9CA1-DAA6-4925-A35D-50A64160446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allasnews.com/sharedcontent/dws/news/localnews/stories/010509dnmetteachertube.3899c4e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eachertube.com/view_video.php?viewkey=7027df2bd5f4bfb02af7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sd.net/hhs" TargetMode="External"/><Relationship Id="rId3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Video Book Talks on TeacherTub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7467840" cy="1905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lissa Hall - Hebron High Scho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sted by Kay Ad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wisville I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769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out available at: http://tweb.lisd.net/melissa_hall/index.ht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TCEA 09 lin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-mail:  hallms@lisd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mplementing Projec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ped video book tal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with teacher deciding which videos would be put on the Intern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ited videos with Movie Mak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ploaded videos to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d links to videos 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brary web si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34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dallasnews.com/sharedcontent/dws/news/localnews/stories/010509dnmetteachertube.3899c4e.htm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ticle from Dallas Morning News, January 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951200"/>
            <a:ext cx="8076960" cy="1556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acherTube was created by Jason Smith, Superintendent of Melissa ISD and his brother, Ad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ing Teacher Tub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o to www.teachertube.co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0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238560" cy="885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 flipV="1">
            <a:off x="2438280" y="1828440"/>
            <a:ext cx="259092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2743200"/>
            <a:ext cx="320040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2743200"/>
            <a:ext cx="2819520" cy="2666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27432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505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Helpful Help Men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gister for a free accou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914400"/>
            <a:ext cx="9144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72200" y="1066680"/>
            <a:ext cx="9907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ogin and 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load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7391520" y="1523880"/>
            <a:ext cx="53316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3126" t="16668" r="3126" b="10418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96080" y="2362320"/>
            <a:ext cx="106704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2286000"/>
            <a:ext cx="12952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3126" t="16668" r="3126" b="7293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2362320"/>
            <a:ext cx="198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must fill in all bl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hoose up to three channe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3126" t="16668" r="3126" b="6250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V="1">
            <a:off x="1143000" y="2666880"/>
            <a:ext cx="167652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3657600"/>
            <a:ext cx="1676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rowse for vide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load Video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3126" t="27087" r="3126" b="7293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419720" y="1828800"/>
            <a:ext cx="175248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828800"/>
            <a:ext cx="12952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3657600"/>
            <a:ext cx="21337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3581280"/>
            <a:ext cx="198108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3581280"/>
            <a:ext cx="19051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295280" y="3048120"/>
            <a:ext cx="152424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verview of Projec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ed and was awarded a grant from our district education foun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with Senior English teachers to record video book talks and upload to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tionale:  Teenagers might respond better to book suggestions b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ir pee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d the date and location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h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date Video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but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933560"/>
            <a:ext cx="9029880" cy="4924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143000" y="6324480"/>
            <a:ext cx="236232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 to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y Support Files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dit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619280"/>
            <a:ext cx="9144000" cy="5238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124080" y="2666880"/>
            <a:ext cx="121932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2590920"/>
            <a:ext cx="160020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4876920"/>
            <a:ext cx="1828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4952880"/>
            <a:ext cx="190512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ke your choices and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pdate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3126" t="30212" r="3126" b="9375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1447920" y="2514600"/>
            <a:ext cx="144756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295280" y="2438280"/>
            <a:ext cx="1600200" cy="609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3048120"/>
            <a:ext cx="1524240" cy="304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048120"/>
            <a:ext cx="144792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4664160"/>
            <a:ext cx="190512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py and paste link to web pag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86200" y="6248520"/>
            <a:ext cx="47242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6248520"/>
            <a:ext cx="487692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324480"/>
            <a:ext cx="510516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6248520"/>
            <a:ext cx="502920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838080"/>
            <a:ext cx="1143000" cy="5410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nk is connected to TeacherTub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17751" r="19784" b="13499"/>
          <a:stretch/>
        </p:blipFill>
        <p:spPr>
          <a:xfrm>
            <a:off x="304920" y="1143000"/>
            <a:ext cx="8683560" cy="5581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d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9096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here to turn ads o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here to view full scre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3126" t="26043" r="40627" b="9375"/>
          <a:stretch/>
        </p:blipFill>
        <p:spPr>
          <a:xfrm>
            <a:off x="76320" y="1523880"/>
            <a:ext cx="5486400" cy="5334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876920" y="4800600"/>
            <a:ext cx="53316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5867280"/>
            <a:ext cx="60984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181120" y="1981080"/>
            <a:ext cx="1219320" cy="289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257440" y="3886200"/>
            <a:ext cx="1219320" cy="2133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ample Vide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2103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k to example video i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teachertube.com/view_video.php?viewkey=7027df2bd5f4bfb02af7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moving a Video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 to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y Support File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and click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move Vide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381880" cy="48765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3880" y="5486400"/>
            <a:ext cx="21337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5486400"/>
            <a:ext cx="198108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5486400"/>
            <a:ext cx="21337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5486400"/>
            <a:ext cx="198144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5410080"/>
            <a:ext cx="17524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3741840" y="0"/>
          <a:ext cx="5402160" cy="69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1840" y="0"/>
                    <a:ext cx="5402160" cy="69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23623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Reflec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owerPoint Presented to Class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quipment Requested from Gra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ny Handycam MiniDV HC62 Video camera ($300.00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e:  cameras use mini-DV tapes, not DV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essory packs ($65.0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ewire (4 pin to 4 pin) @ $15.00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**Firewires will make you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life easier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22856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entury Gothic"/>
              </a:rPr>
              <a:t>Digital Book Talks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388620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adapted from Cynda Mast, Lewisville ISD Librarian, 2005-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What is a book talk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102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 brief (1-3 minutes) talk about the book which is meant to grab the audience’s attention and to persuade them to read i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milar to a movie traile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ive enough of the plot to interest the listeners,  but do not summarize the book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ever  give away the ending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ighlight the interesting point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You may want to read certain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assages to your listener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's always a good idea to end th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ook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alk with a cliffhanger.  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79080" y="25142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Steps to follow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Read a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79080" y="225576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 a book that you like and read it thoroughl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purpose of a book talk is to persuade someone else to read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hoose a focu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79080" y="1874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did you like about the book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cus on a feature that you think will make others want to read it (a dramatic incident, a quirky character or a suspenseful mood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reate a “hook”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79440" y="2027160"/>
            <a:ext cx="565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 want to catch and hold the audience’s attention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ays to hook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ad a key passage from the book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se concrete object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se sound effect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Tell them how to get it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79080" y="21798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ive the title and author of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ive it twice; once at the beginning of your talk and once at the en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79080" y="1874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o no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read your book tal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rite out what you plan to sa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ize it or know it very well, so that you are just “talking” about the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 sure to remember the characters’ nam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ou are performing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llow all good public speaking rul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peak clearly and loudly enough to be heard by your audienc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ke eye contact (in this case, with the camera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nd in a relaxed manner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33360" y="251424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Hook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stacles to Overco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 space iss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acherTube gives you unlimited space for f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eacherTube blocked and will the district allow its u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poke with District Web Master and the District Instructional Technology Supervis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a teacher to agree to the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g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students to bring back paper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list teacher’s help…require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the students to not say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20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did a book called…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’re still working on that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79080" y="236196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Quirky Character 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1905120"/>
            <a:ext cx="71452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Example:  Reading a key passage (put example video here)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Do’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et your permission slips signed by your parents and yourself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turn them to your teacher as soon as possibl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heck out other students’ book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alks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www.lisd.net/hh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he library link and then the Student Book Talks lin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Don’t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9080" y="20574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ear a shirt with the school name on it on the day of taping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ay your full nam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ad your book tal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7720" y="25142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Practice, practice, and practice again!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83808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d, finally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494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st, Cynda. Lewisville ISD Librarian, 2005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lib.uconn.edu/copyright/u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Works.html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teachertube.com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ttp://www.utsystem.edu/OGC/Intellectual                                  Property/faculty.htm&gt; 31 Jan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son, Carol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pyright for Schools: A Practical Guide for Educa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4. Worthington, OH: Linworth Books, 2005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ermission, permission, permission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mission letters and forms sent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parents and stu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approved by principal firs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be signed b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parents and stud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efore videos can go up on TeacherTu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tudent Prepar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werPoint presentation on what makes a good book talk (PPT is included at the end of this 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tributed permission letters and answered their ques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tributed bookmarks advertising student book tal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659040" y="0"/>
          <a:ext cx="54849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9040" y="0"/>
                    <a:ext cx="54849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2133720"/>
            <a:ext cx="350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ermission 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ermission For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714840" y="0"/>
          <a:ext cx="5429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4840" y="0"/>
                    <a:ext cx="5429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04920" y="1295280"/>
            <a:ext cx="3581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ok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l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8:06:31Z</dcterms:created>
  <dc:creator>LISD</dc:creator>
  <dc:description/>
  <dc:language>en-US</dc:language>
  <cp:lastModifiedBy>HISD</cp:lastModifiedBy>
  <dcterms:modified xsi:type="dcterms:W3CDTF">2009-02-19T18:58:06Z</dcterms:modified>
  <cp:revision>83</cp:revision>
  <dc:subject/>
  <dc:title>Video Book Talks on Teacher Tube</dc:title>
</cp:coreProperties>
</file>