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B3D-0040-4C73-9B28-008A6406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FD2-5DA9-4166-B879-BE3A3BA0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017-948A-4387-A6B3-92BB7D00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A67-8323-46BD-9631-21C657A9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C24F-7DF6-4979-A95B-67CEAB42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5219-F0B7-44B3-94B2-F1A3F1FA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17DE-76F3-49EE-B015-EB4A26FD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CDCF-4654-4672-93D2-54F27D9D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2681-6989-4B5C-B2E0-D00ECEE6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123F-9B9C-4F3C-9C04-B22A0676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1D68-BA47-4F38-86B3-74F692C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A10-A90E-4B35-A21D-73AB28A3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F5F1-3741-4875-B4D4-AFDDDFF5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7349-C051-42BB-BCFE-AA90FA3A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E923-55B0-4152-A56F-322001BF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82FD-9CAB-41D2-AF63-9F5212C4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A884-95D3-43A5-92CB-0AD57589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A723-85C5-4EB6-84C2-1F928895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092E-9A4D-401B-9E19-E7291AA7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A4FB-81AC-46C6-8DA9-BFF43778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C7D1-C39B-4DF5-BEF5-8070857E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710E-65BC-4386-9F53-F0B43C72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56C-8295-47A8-BA25-A8C1C3CF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7990-2C52-4861-ADDA-D92B4F95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4F7F-418C-4C16-940B-79257D4F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9C7C-067E-41C0-B130-3332448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5062-00A2-4800-BA2B-6A66B3A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6EB2-0DA6-4596-907E-19AA1EDF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D091-5DA1-47BA-8814-01659F91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3DF3-E17C-4C06-875F-F73A8533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F35-4F8F-44FE-ADAC-D32A1A72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E4F-95C2-4DD6-8412-4AFE0003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CAE-3A80-47E4-9875-A25AC16B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954-AFD7-474E-8E21-24F4D5DE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A4C-F98D-428D-9209-BB0C078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F2E-6CD8-453F-AEC8-EC50D3A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77D6-03E9-4A8A-BEA0-4D08E408D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41760" cy="166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C9D9-EE19-439C-92F3-22FB67D00C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CB6F-471F-4503-B8A6-143550500FD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llasnews.com/sharedcontent/dws/news/localnews/stories/010509dnmetteachertube.3899c4e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7027df2bd5f4bfb02af7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sd.net/hhs" TargetMode="External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deo Book Talks on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746784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lissa Hall - Hebron High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ed by Kay Ad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wisville I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out available at: http://tweb.lisd.net/melissa_hall/index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TCEA 09 li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 hallms@lisd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ped video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teacher deciding which videos would be put on the Intern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ed videos with Movie Mak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loaded videos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links to videos 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y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dallasnews.com/sharedcontent/dws/news/localnews/stories/010509dnmetteachertube.3899c4e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le from Dallas Morning News, January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51200"/>
            <a:ext cx="8076960" cy="1556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erTube was created by Jason Smith, Superintendent of Melissa ISD and his brother, A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ing Teacher T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o to www.teachertube.c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238560" cy="885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 flipV="1">
            <a:off x="2438280" y="1828440"/>
            <a:ext cx="25909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743200"/>
            <a:ext cx="32004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743200"/>
            <a:ext cx="281952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7432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elpful Help Men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gister for a free accou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914400"/>
            <a:ext cx="9144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1066680"/>
            <a:ext cx="9907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gin and 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1523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3126" t="16668" r="3126" b="10418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96080" y="2362320"/>
            <a:ext cx="1067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2860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236232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ust fill in all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oose up to three channe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3126" t="16668" r="3126" b="625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1143000" y="2666880"/>
            <a:ext cx="16765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owse for vide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126" t="27087" r="3126" b="7293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19720" y="1828800"/>
            <a:ext cx="17524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657600"/>
            <a:ext cx="21337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19810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5812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95280" y="3048120"/>
            <a:ext cx="152424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verview of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d and was awarded a grant from our district education foun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Senior English teachers to record video book talks and upload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e:  Teenagers might respond better to book suggestions b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ir pe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the date and loca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9029880" cy="492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3000" y="6324480"/>
            <a:ext cx="236232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dit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24080" y="2666880"/>
            <a:ext cx="121932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5909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876920"/>
            <a:ext cx="1828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49528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your choices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126" t="30212" r="3126" b="9375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1447920" y="2514600"/>
            <a:ext cx="144756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438280"/>
            <a:ext cx="16002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048120"/>
            <a:ext cx="152424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048120"/>
            <a:ext cx="1447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64160"/>
            <a:ext cx="19051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py and paste link to web p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86200" y="6248520"/>
            <a:ext cx="47242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6248520"/>
            <a:ext cx="48769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324480"/>
            <a:ext cx="5105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8520"/>
            <a:ext cx="5029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838080"/>
            <a:ext cx="1143000" cy="5410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k is connected to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7751" r="19784" b="13499"/>
          <a:stretch/>
        </p:blipFill>
        <p:spPr>
          <a:xfrm>
            <a:off x="304920" y="1143000"/>
            <a:ext cx="8683560" cy="558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turn ads 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view full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126" t="26043" r="40627" b="9375"/>
          <a:stretch/>
        </p:blipFill>
        <p:spPr>
          <a:xfrm>
            <a:off x="76320" y="1523880"/>
            <a:ext cx="5486400" cy="533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800600"/>
            <a:ext cx="5331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867280"/>
            <a:ext cx="6098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81120" y="1981080"/>
            <a:ext cx="1219320" cy="289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57440" y="3886200"/>
            <a:ext cx="121932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 Vide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103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o example video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eachertube.com/view_video.php?viewkey=7027df2bd5f4bfb02af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oving a Video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mov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487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486400"/>
            <a:ext cx="19810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5486400"/>
            <a:ext cx="19814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410080"/>
            <a:ext cx="1752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741840" y="0"/>
          <a:ext cx="5402160" cy="69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0"/>
                    <a:ext cx="54021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2362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Reflec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werPoint Presented to Clas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pment Requested from Gr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ny Handycam MiniDV HC62 Video camera ($300.00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e:  cameras use mini-DV tapes, not DV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ory packs ($65.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ewire (4 pin to 4 pin) @ $15.00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**Firewires will make y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life easi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Digital Book Talk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886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adapted from Cynda Mast, Lewisville ISD Librarian, 2005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at is a book talk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102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 brief (1-3 minutes) talk about the book which is meant to grab the audience’s attention and to persuade them to read i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milar to a movie trail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enough of the plot to interest the listeners,  but do not summarize the 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ver  give away the ending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light the interesting point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may want to read certai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ages to your listene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always a good idea to end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ok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 with a cliffhanger.  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9080" y="25142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Steps to follow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79080" y="22557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a book that you like and read it thorough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urpose of a book talk is to persuade someone else to read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oose a focu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id you like about the boo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a feature that you think will make others want to read it (a dramatic incident, a quirky character or a suspenseful mood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a “hook”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440" y="2027160"/>
            <a:ext cx="565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ant to catch and hold the audience’s attent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ys to hook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ad a key passage from the boo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concrete obj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sound eff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ell them how to get it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9080" y="2179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the title and author of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it twice; once at the beginning of your talk and once at the en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out what you plan to s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ize it or know it very well, so that you are just “talking” about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sure to remember the characters’ nam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ou are perform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 all good public speaking rul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ak clearly and loudly enough to be heard by your audie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eye contact (in this case, with the camera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 in a relaxed mann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25142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Hoo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tacles to Overc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space iss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cherTube gives you unlimited space for 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eacherTube blocked and will the district allow its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oke with District Web Master and the District Instructional Technology Supervi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a teacher to agree to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students to bring back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list teacher’s help…requir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the students to not sa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id a book called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’re still working on tha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23619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Quirky Character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145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Reading a key passage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’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 your permission slips signed by your parents and yourself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urn them to your teacher as soon as possi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 out other students’ book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lisd.net/hh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he library link and then the Student Book Talks lin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n’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ar a shirt with the school name on it on the day of tap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y your full na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ractice, practice, and practice again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, finall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t, Cynda. Lewisville ISD Librarian, 2005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lib.uconn.edu/copyright/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Works.html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teachertube.co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utsystem.edu/OGC/Intellectual                                  Property/faculty.ht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son, Carol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pyright for Schools: A Practical Guide for Educ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4. Worthington, OH: Linworth Books, 200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mission, permission, permission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mission letters and forms sent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pproved by principal fir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igned b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fore videos can go up on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udent Prepa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Point presentation on what makes a good book talk (PPT is included at the end of this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permission letters and answered their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bookmarks advertising student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659040" y="0"/>
          <a:ext cx="5484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9040" y="0"/>
                    <a:ext cx="5484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2133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Fo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714840" y="0"/>
          <a:ext cx="5429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5429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129528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6:31Z</dcterms:created>
  <dc:creator>LISD</dc:creator>
  <dc:description/>
  <dc:language>en-US</dc:language>
  <cp:lastModifiedBy>HISD</cp:lastModifiedBy>
  <dcterms:modified xsi:type="dcterms:W3CDTF">2009-02-19T18:58:06Z</dcterms:modified>
  <cp:revision>83</cp:revision>
  <dc:subject/>
  <dc:title>Video Book Talks on Teacher Tube</dc:title>
</cp:coreProperties>
</file>